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3994-DF38-47D7-9E18-99F45932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CA2E-DF1A-4A25-91A7-E5DC48EC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4213-0226-4BDB-801A-54C100B5A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A1FA-0206-41A3-9EEC-26205C81D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9EC8-AD91-4763-862B-A1F5FB2DF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CFEE-27EB-4030-9697-87A117C9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C34D-4885-48B9-96C2-651AECFB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E7FB-1B3A-4A6E-B0AC-82CABF1B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95BF-5EE7-4F10-99B4-80789F84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C703-EB72-4A37-B550-70F95C1D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2B81-D65B-4BA3-B6D9-6A5067BB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2631-AF7B-4E3C-9A3D-AB369A67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E8FE-7A40-4D58-8437-D0947077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0151-ECC8-4FA6-BF86-302EEB41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9077-6857-4820-8575-8D2A5F2D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6391-0676-443A-BD09-3520E1CEC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ABF2-231D-4897-9100-48CD46D4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EF07-EC5C-4FD0-82AD-B30F68E4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1B92-C2BD-4BB4-8081-8973E5F8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ED46-74FA-49D7-B119-EF20C3CF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5155-EFAC-43FE-B9E2-69567279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085A-5FD0-4B56-8E55-5BF52B1A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96A6-8815-4E66-A20C-AF37809C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934C-C26D-4451-91A9-A00C37FA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28600" y="334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6633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7588-3FE7-4D8C-8FDE-C0B25DF0D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1054080" y="165240"/>
            <a:ext cx="7696080" cy="685800"/>
            <a:chOff x="1054080" y="165240"/>
            <a:chExt cx="7696080" cy="685800"/>
          </a:xfrm>
        </p:grpSpPr>
        <p:sp>
          <p:nvSpPr>
            <p:cNvPr id="7" name=""/>
            <p:cNvSpPr/>
            <p:nvPr/>
          </p:nvSpPr>
          <p:spPr>
            <a:xfrm>
              <a:off x="1054080" y="165240"/>
              <a:ext cx="7696080" cy="685800"/>
            </a:xfrm>
            <a:custGeom>
              <a:avLst/>
              <a:gdLst/>
              <a:ahLst/>
              <a:rect l="l" t="t" r="r" b="b"/>
              <a:pathLst>
                <a:path w="4848" h="432">
                  <a:moveTo>
                    <a:pt x="4848" y="48"/>
                  </a:moveTo>
                  <a:lnTo>
                    <a:pt x="4848" y="432"/>
                  </a:lnTo>
                  <a:cubicBezTo>
                    <a:pt x="4848" y="432"/>
                    <a:pt x="2424" y="432"/>
                    <a:pt x="0" y="432"/>
                  </a:cubicBezTo>
                  <a:cubicBezTo>
                    <a:pt x="161" y="345"/>
                    <a:pt x="169" y="61"/>
                    <a:pt x="0" y="0"/>
                  </a:cubicBezTo>
                  <a:cubicBezTo>
                    <a:pt x="2424" y="0"/>
                    <a:pt x="4848" y="0"/>
                    <a:pt x="4848" y="0"/>
                  </a:cubicBezTo>
                  <a:lnTo>
                    <a:pt x="4848" y="48"/>
                  </a:lnTo>
                  <a:close/>
                </a:path>
              </a:pathLst>
            </a:custGeom>
            <a:solidFill>
              <a:srgbClr val="b6ab82"/>
            </a:solidFill>
            <a:ln w="9360">
              <a:solidFill>
                <a:srgbClr val="cec7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" name=""/>
            <p:cNvGrpSpPr/>
            <p:nvPr/>
          </p:nvGrpSpPr>
          <p:grpSpPr>
            <a:xfrm>
              <a:off x="1897200" y="165240"/>
              <a:ext cx="6075360" cy="680400"/>
              <a:chOff x="1897200" y="165240"/>
              <a:chExt cx="6075360" cy="680400"/>
            </a:xfrm>
          </p:grpSpPr>
          <p:grpSp>
            <p:nvGrpSpPr>
              <p:cNvPr id="9" name=""/>
              <p:cNvGrpSpPr/>
              <p:nvPr/>
            </p:nvGrpSpPr>
            <p:grpSpPr>
              <a:xfrm>
                <a:off x="1897200" y="166680"/>
                <a:ext cx="3505320" cy="677160"/>
                <a:chOff x="1897200" y="166680"/>
                <a:chExt cx="3505320" cy="677160"/>
              </a:xfrm>
            </p:grpSpPr>
            <p:sp>
              <p:nvSpPr>
                <p:cNvPr id="10" name=""/>
                <p:cNvSpPr/>
                <p:nvPr/>
              </p:nvSpPr>
              <p:spPr>
                <a:xfrm>
                  <a:off x="3859560" y="788400"/>
                  <a:ext cx="11160" cy="12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3978360" y="831240"/>
                  <a:ext cx="14400" cy="12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3642120" y="761400"/>
                  <a:ext cx="20520" cy="2196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3399120" y="782280"/>
                  <a:ext cx="17280" cy="75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3326040" y="791640"/>
                  <a:ext cx="44640" cy="252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3279960" y="790200"/>
                  <a:ext cx="46080" cy="2484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3030840" y="651960"/>
                  <a:ext cx="239760" cy="14724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177000" y="642600"/>
                  <a:ext cx="106200" cy="10764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279960" y="691560"/>
                  <a:ext cx="74520" cy="205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276720" y="717120"/>
                  <a:ext cx="50760" cy="5364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3362760" y="686880"/>
                  <a:ext cx="25200" cy="3132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3368880" y="736200"/>
                  <a:ext cx="31680" cy="1548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3402360" y="712440"/>
                  <a:ext cx="41040" cy="2664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3413520" y="725040"/>
                  <a:ext cx="193680" cy="9648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3581640" y="734400"/>
                  <a:ext cx="52560" cy="4104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3692880" y="64728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3759480" y="710640"/>
                  <a:ext cx="17280" cy="1260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3545280" y="56772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3432600" y="63468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3308760" y="613800"/>
                  <a:ext cx="54000" cy="4248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291120" y="523440"/>
                  <a:ext cx="63360" cy="91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306960" y="590040"/>
                  <a:ext cx="22320" cy="2664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3262680" y="596520"/>
                  <a:ext cx="29880" cy="2664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4927680" y="559800"/>
                  <a:ext cx="474840" cy="28404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4299120" y="167760"/>
                  <a:ext cx="666720" cy="4489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094280" y="489960"/>
                  <a:ext cx="24120" cy="2520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4075200" y="480600"/>
                  <a:ext cx="25560" cy="1872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4845240" y="428040"/>
                  <a:ext cx="115920" cy="5220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4967640" y="470880"/>
                  <a:ext cx="93600" cy="2376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918320" y="483840"/>
                  <a:ext cx="38160" cy="216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892760" y="415440"/>
                  <a:ext cx="25560" cy="2808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5094720" y="501120"/>
                  <a:ext cx="29880" cy="4248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4556520" y="175680"/>
                  <a:ext cx="325440" cy="6480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4268880" y="174240"/>
                  <a:ext cx="301680" cy="3132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603960" y="220320"/>
                  <a:ext cx="28440" cy="1548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2826000" y="174240"/>
                  <a:ext cx="692280" cy="24084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3519720" y="166680"/>
                  <a:ext cx="31680" cy="86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3500640" y="239400"/>
                  <a:ext cx="93600" cy="5364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3400560" y="290160"/>
                  <a:ext cx="127080" cy="1137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84800" y="32328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773440" y="401040"/>
                  <a:ext cx="551160" cy="29988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2870280" y="607680"/>
                  <a:ext cx="30240" cy="45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3292560" y="451800"/>
                  <a:ext cx="28800" cy="378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3373560" y="433080"/>
                  <a:ext cx="14400" cy="1548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1897200" y="282240"/>
                  <a:ext cx="687600" cy="56160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2163960" y="493200"/>
                  <a:ext cx="258840" cy="35064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2619720" y="753480"/>
                  <a:ext cx="11160" cy="1872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2605320" y="572760"/>
                  <a:ext cx="14400" cy="108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978200" y="350280"/>
                  <a:ext cx="39600" cy="1548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457720" y="204480"/>
                  <a:ext cx="468360" cy="36936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2138760" y="175680"/>
                  <a:ext cx="938160" cy="15048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2329200" y="231480"/>
                  <a:ext cx="20520" cy="154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2305440" y="253440"/>
                  <a:ext cx="29880" cy="1728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2403720" y="318600"/>
                  <a:ext cx="50760" cy="93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2491200" y="317160"/>
                  <a:ext cx="28440" cy="2340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257560" y="252000"/>
                  <a:ext cx="22320" cy="154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6164640" y="165240"/>
                <a:ext cx="1807920" cy="680400"/>
                <a:chOff x="6164640" y="165240"/>
                <a:chExt cx="1807920" cy="68040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7909200" y="761760"/>
                  <a:ext cx="20520" cy="2196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7666200" y="782640"/>
                  <a:ext cx="17640" cy="75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593120" y="792000"/>
                  <a:ext cx="44640" cy="252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547400" y="790560"/>
                  <a:ext cx="45720" cy="2484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297920" y="652320"/>
                  <a:ext cx="239760" cy="14724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444080" y="642960"/>
                  <a:ext cx="106200" cy="10764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7547400" y="691920"/>
                  <a:ext cx="74520" cy="205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7544160" y="717480"/>
                  <a:ext cx="50760" cy="5364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29840" y="687240"/>
                  <a:ext cx="25200" cy="3132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35960" y="736560"/>
                  <a:ext cx="32040" cy="1548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7669440" y="712800"/>
                  <a:ext cx="41400" cy="2664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7680600" y="725400"/>
                  <a:ext cx="193680" cy="9648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7848720" y="734760"/>
                  <a:ext cx="52560" cy="4104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7959960" y="64764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7812360" y="56808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7699680" y="63504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575840" y="614160"/>
                  <a:ext cx="54000" cy="4248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558200" y="523800"/>
                  <a:ext cx="63720" cy="91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7574040" y="590400"/>
                  <a:ext cx="22320" cy="2664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529760" y="596880"/>
                  <a:ext cx="30240" cy="2664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871040" y="220680"/>
                  <a:ext cx="28440" cy="1548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091640" y="174600"/>
                  <a:ext cx="695160" cy="240840"/>
                </a:xfrm>
                <a:custGeom>
                  <a:avLst/>
                  <a:gdLst/>
                  <a:ahLst/>
                  <a:rect l="l" t="t" r="r" b="b"/>
                  <a:pathLst>
                    <a:path w="438" h="152">
                      <a:moveTo>
                        <a:pt x="73" y="1"/>
                      </a:moveTo>
                      <a:lnTo>
                        <a:pt x="438" y="0"/>
                      </a:lnTo>
                      <a:cubicBezTo>
                        <a:pt x="432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786800" y="165240"/>
                  <a:ext cx="32040" cy="8712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7767720" y="239760"/>
                  <a:ext cx="93960" cy="5364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7668000" y="290520"/>
                  <a:ext cx="126720" cy="1137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751880" y="32364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7040880" y="401400"/>
                  <a:ext cx="550800" cy="29988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7137720" y="608040"/>
                  <a:ext cx="30240" cy="45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560000" y="452160"/>
                  <a:ext cx="28440" cy="378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7641000" y="433440"/>
                  <a:ext cx="14040" cy="1548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6164640" y="284040"/>
                  <a:ext cx="687240" cy="56160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431040" y="495360"/>
                  <a:ext cx="258840" cy="3502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6886800" y="753840"/>
                  <a:ext cx="11160" cy="1872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872400" y="573120"/>
                  <a:ext cx="14400" cy="108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6245640" y="350640"/>
                  <a:ext cx="39600" cy="1548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724800" y="204840"/>
                  <a:ext cx="468360" cy="36936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6405840" y="176040"/>
                  <a:ext cx="938160" cy="15048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6596280" y="231840"/>
                  <a:ext cx="20520" cy="154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572520" y="253800"/>
                  <a:ext cx="30240" cy="1728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6670800" y="318960"/>
                  <a:ext cx="50760" cy="93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6758280" y="317520"/>
                  <a:ext cx="28440" cy="2340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525000" y="252360"/>
                  <a:ext cx="21960" cy="154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9" name=""/>
            <p:cNvGrpSpPr/>
            <p:nvPr/>
          </p:nvGrpSpPr>
          <p:grpSpPr>
            <a:xfrm>
              <a:off x="1266840" y="176040"/>
              <a:ext cx="7464240" cy="663840"/>
              <a:chOff x="1266840" y="176040"/>
              <a:chExt cx="7464240" cy="663840"/>
            </a:xfrm>
          </p:grpSpPr>
          <p:sp>
            <p:nvSpPr>
              <p:cNvPr id="110" name=""/>
              <p:cNvSpPr/>
              <p:nvPr/>
            </p:nvSpPr>
            <p:spPr>
              <a:xfrm>
                <a:off x="1266840" y="527040"/>
                <a:ext cx="7464240" cy="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62864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99080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35260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1476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7656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43836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80052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16232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52448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88628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24844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61024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97204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33420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69600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05816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41996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78176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14392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05720" y="176040"/>
                <a:ext cx="0" cy="6638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1917720" y="173160"/>
              <a:ext cx="5864040" cy="671040"/>
              <a:chOff x="1917720" y="173160"/>
              <a:chExt cx="5864040" cy="671040"/>
            </a:xfrm>
          </p:grpSpPr>
          <p:sp>
            <p:nvSpPr>
              <p:cNvPr id="132" name=""/>
              <p:cNvSpPr/>
              <p:nvPr/>
            </p:nvSpPr>
            <p:spPr>
              <a:xfrm>
                <a:off x="4524120" y="174600"/>
                <a:ext cx="0" cy="2250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717800" y="527040"/>
                <a:ext cx="11124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886280" y="555480"/>
                <a:ext cx="0" cy="442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248080" y="714240"/>
                <a:ext cx="0" cy="12492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334200" y="352440"/>
                <a:ext cx="0" cy="28512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184800" y="527040"/>
                <a:ext cx="55260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696000" y="374400"/>
                <a:ext cx="0" cy="46656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6699240" y="177480"/>
                <a:ext cx="0" cy="7884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7057800" y="174240"/>
                <a:ext cx="0" cy="28836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7296120" y="527040"/>
                <a:ext cx="12384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7086240" y="527040"/>
                <a:ext cx="9828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7419960" y="174240"/>
                <a:ext cx="0" cy="42804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781760" y="745920"/>
                <a:ext cx="0" cy="5364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438360" y="180720"/>
                <a:ext cx="0" cy="982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076560" y="176040"/>
                <a:ext cx="0" cy="5346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3035160" y="527040"/>
                <a:ext cx="10800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822400" y="527040"/>
                <a:ext cx="9540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2504880" y="527040"/>
                <a:ext cx="13032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917720" y="527040"/>
                <a:ext cx="55224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349360" y="371520"/>
                <a:ext cx="0" cy="4726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990800" y="399960"/>
                <a:ext cx="0" cy="24732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2352600" y="173160"/>
                <a:ext cx="0" cy="424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714400" y="285480"/>
                <a:ext cx="0" cy="1522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714400" y="176040"/>
                <a:ext cx="0" cy="3456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777000" y="525240"/>
                <a:ext cx="127080" cy="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6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4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cec7aa"/>
                </a:gs>
                <a:gs pos="50000">
                  <a:srgbClr val="e9e6d9"/>
                </a:gs>
                <a:gs pos="100000">
                  <a:srgbClr val="cec7a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6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b6ab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a092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b6ab8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6055-CF30-485A-803C-E3992E046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511200" y="24606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6633"/>
                </a:solidFill>
                <a:latin typeface="Times New Roman"/>
              </a:rPr>
              <a:t>Title Page</a:t>
            </a:r>
            <a:endParaRPr b="0" i="1" lang="en-US" sz="40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440" y="312408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8765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Mission Facts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1066680" y="2590920"/>
          <a:ext cx="7391520" cy="3276360"/>
        </p:xfrm>
        <a:graphic>
          <a:graphicData uri="http://schemas.openxmlformats.org/drawingml/2006/table">
            <a:tbl>
              <a:tblPr/>
              <a:tblGrid>
                <a:gridCol w="3695760"/>
                <a:gridCol w="36957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Establish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nded 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sion Order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d F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Geography (Location)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Timeline of the Early History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685800" y="2286000"/>
          <a:ext cx="7772400" cy="4235400"/>
        </p:xfrm>
        <a:graphic>
          <a:graphicData uri="http://schemas.openxmlformats.org/drawingml/2006/table">
            <a:tbl>
              <a:tblPr/>
              <a:tblGrid>
                <a:gridCol w="1828800"/>
                <a:gridCol w="5943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50000">
              <a:srgbClr val="e9e6d9"/>
            </a:gs>
            <a:gs pos="100000">
              <a:srgbClr val="cec7a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33"/>
                </a:solidFill>
                <a:latin typeface="Times New Roman"/>
              </a:rPr>
              <a:t>The Mission Today</a:t>
            </a:r>
            <a:endParaRPr b="0" i="1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6:52:47Z</dcterms:created>
  <dc:creator>Lupin Hill</dc:creator>
  <dc:description/>
  <dc:language>en-US</dc:language>
  <cp:lastModifiedBy>Lupin Hill</cp:lastModifiedBy>
  <cp:lastPrinted>2007-01-11T20:25:53Z</cp:lastPrinted>
  <dcterms:modified xsi:type="dcterms:W3CDTF">2010-11-10T16:52:57Z</dcterms:modified>
  <cp:revision>1</cp:revision>
  <dc:subject/>
  <dc:title>Title Page</dc:title>
</cp:coreProperties>
</file>